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2.pct" ContentType="image/x-pict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242E-5532-46F5-8B14-CD4DB5456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/Nurse: http://www.doctortoto.com/images/doctortoto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: http://www.languageinindia.com/april2003/televis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: http://www.nextnature.net/?p=2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the patient back som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them to inside the hospital and outside the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weeds pic: http://www.nextnature.net/?p=2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s by linking them to staff or out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or ceiling or curtain or built into the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it to be more engaging, have more services, more potential is t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die (color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ak, flat panel, light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several ske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working on best prot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ing: On/Off; Di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/Radio Controls: Volume, Channel, Station, Closed Captioning, On/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thing Sounds: On/Off, Volume, Sound Selection (Rain, Waterfall, River, Ocean, Cricke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Proj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need to decide how much information/how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in doctor’s view [link!!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3FE-DE5C-4A19-B6B9-32EA0FE5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6FE-18B3-4EB6-8768-71032A2F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727-1CDD-4E08-935A-F6C2108C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6F7-8116-4AB7-B6BB-53A670E3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E04C-3912-4BCB-AF96-78D3AAE1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5CBD-8906-45E0-973A-8A09482F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CCF8-9B54-4382-BD22-93A96A3D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36CF-739E-4C5F-B523-B94B6FF1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5446-E079-4368-897D-517A504D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2E74-0753-4FE1-AD41-757DB211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3543-AA6A-4006-A859-4111707B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3E1-2A30-4865-A1EF-56AD25D6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383B-CC6A-4C11-8ACE-FEE75698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20A4-9792-4DDE-B713-B2B8AB18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AAC2-7EB9-4F39-BF9E-35ECA6D6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4F4C-13D9-45A4-A48C-35EB335C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A3A7-F3CA-4AC9-8A3C-4C3615D1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8AD-2C4F-4835-9FAB-F408BA48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4A0-E29F-497D-AAAE-BFBBF300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A58-9C1B-4F4E-9773-390B3EB2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304-CB97-4734-A5EF-882E1034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26F-B125-4225-B1D1-CC707991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7D8-98B4-48B9-9F9A-05B97873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AE7-5C29-413E-8A9B-2ABD5559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262A-BB91-4BFF-B3F1-9CF88B6E2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906C-BC3D-4872-A5E5-AA9581DCF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proving Patient Experience in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D Treatment Roo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509920"/>
            <a:ext cx="46479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Garamond"/>
                <a:ea typeface="Osaka"/>
              </a:rPr>
              <a:t>Team M</a:t>
            </a:r>
            <a:r>
              <a:rPr b="0" i="1" lang="en-US" sz="3200" spc="-1" strike="noStrike">
                <a:solidFill>
                  <a:srgbClr val="00cc00"/>
                </a:solidFill>
                <a:latin typeface="Garamond"/>
                <a:ea typeface="Osaka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Osaka"/>
              </a:rPr>
              <a:t>Sushama B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Osaka"/>
              </a:rPr>
              <a:t>Caroline Castell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Osaka"/>
              </a:rPr>
              <a:t>Allyn Rip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Osaka"/>
              </a:rPr>
              <a:t>October 28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1219320"/>
            <a:ext cx="6933960" cy="4724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5440" y="1752480"/>
            <a:ext cx="5386320" cy="3619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light weeds"/>
          <p:cNvPicPr/>
          <p:nvPr/>
        </p:nvPicPr>
        <p:blipFill>
          <a:blip r:embed="rId2"/>
          <a:srcRect l="0" t="0" r="0" b="23477"/>
          <a:stretch/>
        </p:blipFill>
        <p:spPr>
          <a:xfrm>
            <a:off x="5651640" y="4265640"/>
            <a:ext cx="1449360" cy="12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909800" y="2119320"/>
            <a:ext cx="1095480" cy="816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93640" y="18558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9200" y="2146320"/>
            <a:ext cx="4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76040" y="38098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981080" y="3505320"/>
            <a:ext cx="1508400" cy="1522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82640" y="32004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51480" y="504360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rcRect l="0" t="13895" r="39859" b="19988"/>
          <a:stretch/>
        </p:blipFill>
        <p:spPr>
          <a:xfrm rot="19376400">
            <a:off x="4932360" y="4749480"/>
            <a:ext cx="897120" cy="71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E9F-D9FC-4F73-B0DF-6760055A8A2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Interactive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ynamic and experient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esponds to external stimuli, movement or patient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corporates sounds, col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Brings nature indo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owers patient anx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sitive eng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light weeds"/>
          <p:cNvPicPr/>
          <p:nvPr/>
        </p:nvPicPr>
        <p:blipFill>
          <a:blip r:embed="rId1"/>
          <a:srcRect l="0" t="0" r="0" b="23205"/>
          <a:stretch/>
        </p:blipFill>
        <p:spPr>
          <a:xfrm>
            <a:off x="5105520" y="1239840"/>
            <a:ext cx="2533680" cy="2189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75280" y="3713040"/>
            <a:ext cx="2736720" cy="2281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2867040" cy="24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508-49E8-457F-AD8D-EBCE2E0789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the next several week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search materials for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ook at designs used by previous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sign device, software, and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mplemen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FB7-2D56-4643-A3A1-C82755954D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Questions or 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5FA-0FDB-4DAD-8FD8-CD0A63DBC5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5715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320040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76520" y="152280"/>
            <a:ext cx="5943240" cy="5638680"/>
            <a:chOff x="1676520" y="152280"/>
            <a:chExt cx="5943240" cy="5638680"/>
          </a:xfrm>
        </p:grpSpPr>
        <p:sp>
          <p:nvSpPr>
            <p:cNvPr id="95" name=""/>
            <p:cNvSpPr/>
            <p:nvPr/>
          </p:nvSpPr>
          <p:spPr>
            <a:xfrm>
              <a:off x="1676520" y="152280"/>
              <a:ext cx="5943240" cy="56386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6080" y="1326960"/>
              <a:ext cx="3922560" cy="3289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15396" t="0" r="6411" b="0"/>
          <a:stretch/>
        </p:blipFill>
        <p:spPr>
          <a:xfrm>
            <a:off x="3200400" y="1828800"/>
            <a:ext cx="2971800" cy="2182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BE0-3B47-427E-981F-45BE43CF1B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Patient “Lifelin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3280" y="198108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asic Remo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urse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Light on/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mited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mproper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inspir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1D5-0A68-4989-B5C9-29D8FA6435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spirations for our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87480" y="1371600"/>
            <a:ext cx="2227320" cy="2460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2586240" cy="190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905120" y="3930480"/>
            <a:ext cx="2536560" cy="1708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952880" y="3943440"/>
            <a:ext cx="312444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frien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 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chscree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ble at bed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7C8-1142-46A7-81F4-019AD53BE3D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ution: </a:t>
            </a: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M</a:t>
            </a:r>
            <a:r>
              <a:rPr b="0" i="1" lang="en-US" sz="4400" spc="-1" strike="noStrike">
                <a:solidFill>
                  <a:srgbClr val="00cc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171960" cy="453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727360" y="23986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1676520"/>
            <a:ext cx="3886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held bedside rem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friendly buttons/touch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s to wall by retractable cord or a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ful, lightwe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multipl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p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patient through information and positive eng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s to screensaver when not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266-A283-4987-B754-AEAF78887E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62520" y="1066680"/>
            <a:ext cx="4647960" cy="4267440"/>
          </a:xfrm>
          <a:prstGeom prst="roundRect">
            <a:avLst>
              <a:gd name="adj" fmla="val 16667"/>
            </a:avLst>
          </a:prstGeom>
          <a:solidFill>
            <a:srgbClr val="a6dd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in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y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y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y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urse Call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3809880" cy="33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580-A11A-4984-9FFB-F2F73C7E75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8640" y="1519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MY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268280"/>
            <a:ext cx="5257800" cy="4599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67280" y="2397240"/>
            <a:ext cx="3429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ive patients control over his/her immediate environ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vide better lighting op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mote relaxation with “soothing sounds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reate engaging experience with interactive proj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BFD-0D6F-4146-80E9-FCF2E552951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Y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502240" cy="4813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9920" y="1143000"/>
            <a:ext cx="2743200" cy="2428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19920" y="3962520"/>
            <a:ext cx="289548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es RFID technology to identify doctors and nurses as soon as they enter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stablishes connection and builds relationship with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mproves patient satisf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55A-0D64-4267-9318-B76F8323F56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MY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7680" y="1143000"/>
            <a:ext cx="5121000" cy="4479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943600" y="3048120"/>
            <a:ext cx="27432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pow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with existing system to relay status of orders and approximate wai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s patients understand “What am I waiting for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19920" y="1143000"/>
            <a:ext cx="2666880" cy="1736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190760" y="1752480"/>
            <a:ext cx="19047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hat, Castellino, Ripp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FD8-989A-495E-89B8-BC66EB25A4A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8:45:42Z</dcterms:created>
  <dc:creator>Caroline Castellino</dc:creator>
  <dc:description/>
  <dc:language>en-US</dc:language>
  <cp:lastModifiedBy>Office 2004 Test Drive User</cp:lastModifiedBy>
  <dcterms:modified xsi:type="dcterms:W3CDTF">2008-10-28T19:34:43Z</dcterms:modified>
  <cp:revision>30</cp:revision>
  <dc:subject/>
  <dc:title>Slide 1</dc:title>
</cp:coreProperties>
</file>